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ADA-9DAC-4766-8927-3E042370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508-1065-4D7A-90CD-6DA334CE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78D-ED93-422C-8078-EB55E2D6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14F-901B-41ED-9BE6-50E367C4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FF6-F4F4-4031-B9AC-0961832D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D27-EB54-4A36-ACDC-2E08DA3C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4BC-08AB-460E-9EFD-B1AD3661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AE7-EB58-4E18-9459-D7C21B2D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6C7-3FC4-449D-B31C-93C35D0F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5CD-5A46-4B45-BDBB-8B651083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722-B7D6-4CED-A450-EFF74D46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153-38C9-4D03-AA25-02E3A811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CFD9-72A4-4926-AF47-322EF19D6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5120" y="1904760"/>
            <a:ext cx="3028680" cy="2732040"/>
            <a:chOff x="1905120" y="1904760"/>
            <a:chExt cx="3028680" cy="2732040"/>
          </a:xfrm>
        </p:grpSpPr>
        <p:sp>
          <p:nvSpPr>
            <p:cNvPr id="42" name=""/>
            <p:cNvSpPr/>
            <p:nvPr/>
          </p:nvSpPr>
          <p:spPr>
            <a:xfrm>
              <a:off x="3962520" y="3733920"/>
              <a:ext cx="571320" cy="50796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327480"/>
              <a:ext cx="571320" cy="40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1905120"/>
              <a:ext cx="29718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210816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996600"/>
                  </a:solidFill>
                  <a:latin typeface="Times New Roman"/>
                </a:rPr>
                <a:t>CARTE DE GROUPE (Receve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6480" y="200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Mentions biologiques spé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2000" y="2514600"/>
              <a:ext cx="217188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33880" y="1904760"/>
              <a:ext cx="0" cy="6094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006640"/>
              <a:ext cx="399960" cy="507960"/>
            </a:xfrm>
            <a:prstGeom prst="rect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616120"/>
              <a:ext cx="18288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996600"/>
                  </a:solidFill>
                  <a:latin typeface="Times New Roman"/>
                </a:rPr>
                <a:t>PREMIERE DETERMINATION Nom et Adresse Laborato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Laboratoire d’Analyses de Biologie Médicale VERDIER J.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38 Rue Saint Laurent – 75005 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2000" y="3327480"/>
              <a:ext cx="2971800" cy="914400"/>
            </a:xfrm>
            <a:prstGeom prst="rect">
              <a:avLst/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2000" y="3835440"/>
              <a:ext cx="80028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2280" y="3327480"/>
              <a:ext cx="0" cy="91440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3327480"/>
              <a:ext cx="0" cy="507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381480"/>
              <a:ext cx="60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Chef de Laboratoi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33274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N° date examen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E1363               06-02-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35440"/>
              <a:ext cx="914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rélèvement effectué le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06.02.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ar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BARTH 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62280" y="3632040"/>
              <a:ext cx="120024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96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520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10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91080" y="403848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91080" y="393696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91080" y="383544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591080" y="37339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33480" y="3632040"/>
              <a:ext cx="39996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591080" y="35305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3327480"/>
              <a:ext cx="28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3489480"/>
              <a:ext cx="343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27480"/>
              <a:ext cx="228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Nég -       -      +      -      +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3316320"/>
              <a:ext cx="685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AB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9080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3336840"/>
              <a:ext cx="590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R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500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808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2280" y="3621240"/>
              <a:ext cx="6285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NOM Prénom        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LAHAYE Mariam            </a:t>
              </a: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ate Lieu de Naissance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25.03.75 Mase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3225960"/>
              <a:ext cx="5713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</a:rPr>
                <a:t> Rh</a:t>
              </a: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  NEGATIF</a:t>
              </a:r>
              <a:r>
                <a:rPr b="1" lang="fr-FR" sz="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373392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ELL   NEGATIF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962520"/>
              <a:ext cx="571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R.A.I. : Nég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96252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 powers</cp:lastModifiedBy>
  <dcterms:modified xsi:type="dcterms:W3CDTF">2002-05-27T21:57:45Z</dcterms:modified>
  <cp:revision>1</cp:revision>
  <dc:subject/>
  <dc:title>PowerPoint Presentation</dc:title>
</cp:coreProperties>
</file>